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31D-76D8-4E18-9D45-F5E1B2AF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1F9-7315-486F-9539-6023465E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03F-38FD-4154-8624-DFB579EF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745-40EE-4E6D-B342-5998E1A9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334-60C9-4D83-AF84-DF98B0EE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A81-7CF1-43DB-914B-FB93B476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4FFF-899C-43A9-82B8-97AA71E8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BEA-9D4B-4695-B3E0-0410D525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BD5-84A7-4EF8-817A-B4046239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268-EBE0-45A5-A862-2BF6496E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FE7-8BBC-42C9-A077-395B8243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63D-77F1-43CD-A4EC-6D923C5C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0D046-4D66-4E2C-A9C8-9827C3D34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3:18:03Z</dcterms:created>
  <dc:creator/>
  <dc:description/>
  <dc:language>en-US</dc:language>
  <cp:lastModifiedBy/>
  <cp:revision>0</cp:revision>
  <dc:subject/>
  <dc:title/>
</cp:coreProperties>
</file>